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68A9-5774-46AF-A27C-A75A15B3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0A8-1226-4651-B6D6-9BF4E3A7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C286-D476-4193-85C1-CCCAB5D3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A67-71EF-4E8D-BD42-5FF153A0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995B-BFD1-48A8-A17B-F3575153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D067-8D96-44C2-B861-09DEEBAB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ABC7-6645-4473-A4F3-C6452848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5064-0C1D-4519-80C3-5C36EE12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DE0D-080E-445F-8FA5-DDF36AED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A156-F74A-4414-8403-B7AC1E02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6076-433D-4BF7-AAC0-8D0CD702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2BA8-A414-4CDC-ACA9-3DD9D5A1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539B-D4B7-4726-87DE-D3C9C936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4A2E-0367-4264-B0FF-770B5FEC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A9CB-A1D1-4440-A600-D6E3F352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B58D-E146-4B2C-A873-6833DD34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5000-71A9-4FBA-80E0-2BE26558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FC6B-61D6-4FD2-834A-F71B0080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09AE-D13B-401B-9321-88F8D8F5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D752-12A5-4E30-B1F1-82F15F0D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A077-7452-4A55-AD99-8C79F1DE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3955-0C30-4090-87BA-8A58A326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8901-1CD0-419B-A57C-8E5D0D72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E8D9-6904-40DE-BAC2-61FF607B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FE22-EA18-4F82-94DE-F962D0917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9DF6-37FD-495C-B779-830556ED74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iagnosing Performance Overheads in the Xen Virtual Machine Environ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733920"/>
            <a:ext cx="32767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avind Menon Willy Zwaenepo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FL, Lausan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3733920"/>
            <a:ext cx="5410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se Renato Sa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shio Tu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. (John) Janakira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P Labs, Palo Al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valuated configur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ux: no X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520" indent="-380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en Driver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run application in privileged driver dom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520" indent="-380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en Guest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un application in unprivileged guest domain interfaced to driver domain via I/O chann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8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371600" y="4724280"/>
            <a:ext cx="7238880" cy="1752840"/>
            <a:chOff x="1371600" y="4724280"/>
            <a:chExt cx="7238880" cy="1752840"/>
          </a:xfrm>
        </p:grpSpPr>
        <p:sp>
          <p:nvSpPr>
            <p:cNvPr id="148" name=""/>
            <p:cNvSpPr/>
            <p:nvPr/>
          </p:nvSpPr>
          <p:spPr>
            <a:xfrm>
              <a:off x="1371600" y="4724280"/>
              <a:ext cx="3581280" cy="17528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5176800"/>
              <a:ext cx="838080" cy="339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38480" y="5742000"/>
              <a:ext cx="838080" cy="339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8160" y="4724280"/>
              <a:ext cx="2362320" cy="17528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24480" y="5742000"/>
              <a:ext cx="838080" cy="339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00200" y="6024600"/>
              <a:ext cx="990360" cy="339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530600">
              <a:off x="3504960" y="5571720"/>
              <a:ext cx="533520" cy="113040"/>
            </a:xfrm>
            <a:prstGeom prst="leftRightArrow">
              <a:avLst>
                <a:gd name="adj1" fmla="val 50000"/>
                <a:gd name="adj2" fmla="val 93958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5855040"/>
              <a:ext cx="1143000" cy="169560"/>
            </a:xfrm>
            <a:prstGeom prst="leftRightArrow">
              <a:avLst>
                <a:gd name="adj1" fmla="val 50000"/>
                <a:gd name="adj2" fmla="val 134195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57400" y="4781880"/>
              <a:ext cx="236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/O Driver Domai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6760" y="483732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uest Domai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6560" y="5517000"/>
              <a:ext cx="152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/O Chann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76160" y="602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68320" y="51768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rid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57420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if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0800" y="57420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if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6210000">
              <a:off x="2335680" y="5694120"/>
              <a:ext cx="508680" cy="152280"/>
            </a:xfrm>
            <a:prstGeom prst="leftRightArrow">
              <a:avLst>
                <a:gd name="adj1" fmla="val 50000"/>
                <a:gd name="adj2" fmla="val 66499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tworking micro-benchmar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streaming TCP connection per NIC (up to 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14280" y="1380960"/>
          <a:ext cx="8829720" cy="4562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4280" y="1380960"/>
                    <a:ext cx="8829720" cy="45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28600" y="5334120"/>
            <a:ext cx="8686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iver receive throughput 75% of Linux through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est throughput 1/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1/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Linux through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ceive – Xen Driver overhe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33523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iling shows slower instruction execution with Xen Driver than w/Linux (both use 100% CP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ta TLB miss count 13 times hig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ruction TLB miss count 17 times hig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en: 11% more instructions per byte transferred        (Xen virtual interrupts, driver hypercal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601640" y="690480"/>
          <a:ext cx="5408640" cy="289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1640" y="690480"/>
                    <a:ext cx="540864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ceive – Xen Guest overhe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3047760"/>
            <a:ext cx="8381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en Guest configuration executes two times as many instructions as Xen Driver configu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river domain (38%): overhead of bridgi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Xen (27%): overhead of page remappi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914400" y="5181480"/>
            <a:ext cx="7238880" cy="1519200"/>
            <a:chOff x="914400" y="5181480"/>
            <a:chExt cx="7238880" cy="1519200"/>
          </a:xfrm>
        </p:grpSpPr>
        <p:sp>
          <p:nvSpPr>
            <p:cNvPr id="176" name=""/>
            <p:cNvSpPr/>
            <p:nvPr/>
          </p:nvSpPr>
          <p:spPr>
            <a:xfrm>
              <a:off x="914400" y="5181480"/>
              <a:ext cx="3581280" cy="1470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09680" y="5573520"/>
              <a:ext cx="838080" cy="2937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81280" y="6063480"/>
              <a:ext cx="838080" cy="2937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90960" y="5181480"/>
              <a:ext cx="2362320" cy="15192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67280" y="6063480"/>
              <a:ext cx="838080" cy="2937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43000" y="6308640"/>
              <a:ext cx="990360" cy="2937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530600">
              <a:off x="3047760" y="5916240"/>
              <a:ext cx="533520" cy="97920"/>
            </a:xfrm>
            <a:prstGeom prst="leftRightArrow">
              <a:avLst>
                <a:gd name="adj1" fmla="val 50000"/>
                <a:gd name="adj2" fmla="val 108466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0" y="6161760"/>
              <a:ext cx="1143000" cy="146880"/>
            </a:xfrm>
            <a:prstGeom prst="leftRightArrow">
              <a:avLst>
                <a:gd name="adj1" fmla="val 50000"/>
                <a:gd name="adj2" fmla="val 15491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00200" y="5232600"/>
              <a:ext cx="23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/O Driver Domai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19560" y="527940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uest Domai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360" y="586836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/O Chann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18960" y="630756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09680" y="55753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rid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57600" y="60645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if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43600" y="60645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if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6210000">
              <a:off x="1912320" y="6011640"/>
              <a:ext cx="441000" cy="152280"/>
            </a:xfrm>
            <a:prstGeom prst="leftRightArrow">
              <a:avLst>
                <a:gd name="adj1" fmla="val 50000"/>
                <a:gd name="adj2" fmla="val 57651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2" name=""/>
          <p:cNvGraphicFramePr/>
          <p:nvPr/>
        </p:nvGraphicFramePr>
        <p:xfrm>
          <a:off x="1530360" y="380880"/>
          <a:ext cx="6005520" cy="3221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380880"/>
                    <a:ext cx="6005520" cy="32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nsmit – Xen Guest overhe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373356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en Guest: executes 6 times as many instructions as Xen driver configu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tor of 2 as in Receive c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uest instructions increase 2.7 ti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tual NIC (vif2) in guest does not support       TCP offload capabilities of 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036800" y="474840"/>
          <a:ext cx="6887880" cy="3868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6800" y="474840"/>
                    <a:ext cx="688788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ggestions for improving X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able virtual NICs to utilize offload capabilities of physical 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icient support for packet demultiplexing in driver doma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Network virtualization overheads in X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ugging using 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nomalous network behavior in X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CP receive throughput in Xen changes with application buffer size (slow Pentium II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80880" y="2133720"/>
          <a:ext cx="8534520" cy="4400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133720"/>
                    <a:ext cx="853452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bugging using Xenopro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0% kernel execution overhead incurred in socket buffer de-fragmenting routine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80880" y="2305080"/>
          <a:ext cx="8077320" cy="4552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305080"/>
                    <a:ext cx="807732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-fragmenting socket buff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6019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nux: insignificant fragmentation with streaming worklo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914400" y="2286000"/>
            <a:ext cx="8152920" cy="3428640"/>
            <a:chOff x="914400" y="2286000"/>
            <a:chExt cx="8152920" cy="3428640"/>
          </a:xfrm>
        </p:grpSpPr>
        <p:sp>
          <p:nvSpPr>
            <p:cNvPr id="213" name=""/>
            <p:cNvSpPr/>
            <p:nvPr/>
          </p:nvSpPr>
          <p:spPr>
            <a:xfrm flipV="1">
              <a:off x="1134720" y="5286240"/>
              <a:ext cx="7051320" cy="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134720" y="3429000"/>
              <a:ext cx="7051320" cy="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07080" y="4071960"/>
              <a:ext cx="514080" cy="714240"/>
            </a:xfrm>
            <a:prstGeom prst="downArrow">
              <a:avLst>
                <a:gd name="adj1" fmla="val 50000"/>
                <a:gd name="adj2" fmla="val 34734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14400" y="2571840"/>
              <a:ext cx="337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Socket receive queu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91400" y="4143600"/>
              <a:ext cx="16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De-fragm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5400000">
              <a:off x="6905520" y="2086920"/>
              <a:ext cx="356760" cy="1469160"/>
            </a:xfrm>
            <a:custGeom>
              <a:avLst/>
              <a:gdLst>
                <a:gd name="textAreaLeft" fmla="*/ 227880 w 356760"/>
                <a:gd name="textAreaRight" fmla="*/ 357120 w 356760"/>
                <a:gd name="textAreaTop" fmla="*/ 38160 h 1469160"/>
                <a:gd name="textAreaBottom" fmla="*/ 1431000 h 146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96920" y="2286000"/>
              <a:ext cx="257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Socket buffer (4 KB)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6464880" y="3813480"/>
              <a:ext cx="356760" cy="587520"/>
            </a:xfrm>
            <a:custGeom>
              <a:avLst/>
              <a:gdLst>
                <a:gd name="textAreaLeft" fmla="*/ 0 w 356760"/>
                <a:gd name="textAreaRight" fmla="*/ 128880 w 356760"/>
                <a:gd name="textAreaTop" fmla="*/ 15120 h 587520"/>
                <a:gd name="textAreaBottom" fmla="*/ 572400 h 58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49680" y="4357800"/>
              <a:ext cx="24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Data packet (MTU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30440" y="4929120"/>
              <a:ext cx="1468800" cy="78552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95680" y="3071880"/>
              <a:ext cx="1468800" cy="785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95680" y="3071880"/>
              <a:ext cx="587160" cy="78552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72680" y="3071880"/>
              <a:ext cx="1468800" cy="785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49680" y="3071880"/>
              <a:ext cx="1469160" cy="785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72680" y="3071880"/>
              <a:ext cx="587160" cy="78552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49680" y="3071880"/>
              <a:ext cx="587520" cy="78552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68040" y="4929120"/>
              <a:ext cx="1469160" cy="785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68040" y="4929120"/>
              <a:ext cx="293760" cy="78552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457200" y="1143000"/>
            <a:ext cx="8077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enolinux (Linux on X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eived packets: 1500 bytes (MTU) out of 4 KB socket bu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ge-sized socket buffers support remapping over I/O chann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rtual Machine Monitors (VMM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ing adoption for server appli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r consolidation, co-located hos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tualization can affect application performance in unexpected w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enoprof useful for identifying major overheads in X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enoprof to be included in official Xen and OProfile rele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to get it: http://xenoprof.sourceforge.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eb server performance in X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5-66% lower peak throughput than Linux depending on Xen configu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95280" y="1662120"/>
          <a:ext cx="8086680" cy="4043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662120"/>
                    <a:ext cx="808668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09480" y="5638680"/>
            <a:ext cx="7315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 VM-aware profiling to diagnose causes of performance degra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ribu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enoprof – framework for VM-aware profiling in X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ing network virtualization overheads in X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ugging performance anomaly using 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work virtualization overheads in X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ugging using 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Xenoprof – profiling for V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ile applications running in VM environ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ibution of different domains (VMs) and          the VMM (Xen) routines to execution c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file various hardware ev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 out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unction name        %Instructions     Modu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---------------------------------------------------------------------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mu_update          13                   Xen (VMM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r_handle_frame      8                   driver domain (Dom 0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cp_v4_rcv               5                   guest domain (Dom 1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Xenoprof – architecture (brief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487656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end existing profilers (OProfile) to use Xenopr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enoprof collects samples and coordinates profilers running in multiple doma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57200" y="1295280"/>
            <a:ext cx="7772400" cy="3276360"/>
            <a:chOff x="457200" y="1295280"/>
            <a:chExt cx="7772400" cy="3276360"/>
          </a:xfrm>
        </p:grpSpPr>
        <p:sp>
          <p:nvSpPr>
            <p:cNvPr id="101" name=""/>
            <p:cNvSpPr/>
            <p:nvPr/>
          </p:nvSpPr>
          <p:spPr>
            <a:xfrm>
              <a:off x="2057400" y="1295280"/>
              <a:ext cx="1295640" cy="1447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10040" y="1752480"/>
              <a:ext cx="1143000" cy="99036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71800" y="3428640"/>
              <a:ext cx="3962520" cy="381240"/>
            </a:xfrm>
            <a:prstGeom prst="rect">
              <a:avLst/>
            </a:prstGeom>
            <a:solidFill>
              <a:srgbClr val="e5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05120" y="3047760"/>
              <a:ext cx="63244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3720" y="129528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omain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10040" y="1828440"/>
              <a:ext cx="12189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rofile   (extende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91120" y="34286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enopro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91120" y="1295280"/>
              <a:ext cx="1295280" cy="1447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43400" y="1752480"/>
              <a:ext cx="1143000" cy="99036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67440" y="1295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omain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43400" y="1828440"/>
              <a:ext cx="12193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rofile   (extende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00800" y="1295280"/>
              <a:ext cx="1295640" cy="1447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53440" y="1752480"/>
              <a:ext cx="1143000" cy="99036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77120" y="129528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omain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440" y="1828440"/>
              <a:ext cx="12189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rofile   (extende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" y="236196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Domains (VM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3520" y="34286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Xen V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190760"/>
              <a:ext cx="312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H/W performance counte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62520" y="4267080"/>
              <a:ext cx="7621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05520" y="4267080"/>
              <a:ext cx="7621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640" y="2742840"/>
              <a:ext cx="228600" cy="762120"/>
            </a:xfrm>
            <a:prstGeom prst="upDownArrow">
              <a:avLst>
                <a:gd name="adj1" fmla="val 50000"/>
                <a:gd name="adj2" fmla="val 66368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3245400">
              <a:off x="2743200" y="3047400"/>
              <a:ext cx="990360" cy="228600"/>
            </a:xfrm>
            <a:prstGeom prst="leftRightArrow">
              <a:avLst>
                <a:gd name="adj1" fmla="val 50000"/>
                <a:gd name="adj2" fmla="val 8624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7767600">
              <a:off x="5867280" y="3047400"/>
              <a:ext cx="990360" cy="228600"/>
            </a:xfrm>
            <a:prstGeom prst="leftRightArrow">
              <a:avLst>
                <a:gd name="adj1" fmla="val 50000"/>
                <a:gd name="adj2" fmla="val 8624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work virtualization overheads in X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ugging using Xenopr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Xen network I/O architectu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3657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vilege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river doma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trols physical N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15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unprivilege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uest doma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ses virtual NIC connected to driver domain via Xen I/O Chann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ol: I/O descriptor ring (shared memor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 Transfer: Page remapping (no copy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838080" y="990720"/>
            <a:ext cx="7238880" cy="2361960"/>
            <a:chOff x="838080" y="990720"/>
            <a:chExt cx="7238880" cy="2361960"/>
          </a:xfrm>
        </p:grpSpPr>
        <p:sp>
          <p:nvSpPr>
            <p:cNvPr id="129" name=""/>
            <p:cNvSpPr/>
            <p:nvPr/>
          </p:nvSpPr>
          <p:spPr>
            <a:xfrm>
              <a:off x="838080" y="990720"/>
              <a:ext cx="3581280" cy="2361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33360" y="1600200"/>
              <a:ext cx="838080" cy="456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04960" y="2361960"/>
              <a:ext cx="838080" cy="456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14640" y="990720"/>
              <a:ext cx="2362320" cy="23619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90960" y="2361960"/>
              <a:ext cx="838080" cy="456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6680" y="2743200"/>
              <a:ext cx="990360" cy="4568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530600">
              <a:off x="2971080" y="2133000"/>
              <a:ext cx="533520" cy="152280"/>
            </a:xfrm>
            <a:prstGeom prst="leftRightArrow">
              <a:avLst>
                <a:gd name="adj1" fmla="val 50000"/>
                <a:gd name="adj2" fmla="val 69746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95680" y="2514600"/>
              <a:ext cx="1143000" cy="228240"/>
            </a:xfrm>
            <a:prstGeom prst="leftRightArrow">
              <a:avLst>
                <a:gd name="adj1" fmla="val 50000"/>
                <a:gd name="adj2" fmla="val 9969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1066680"/>
              <a:ext cx="23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/O Driver Domai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43240" y="114300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uest Domai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43040" y="20574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/O Chann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2640" y="27432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33360" y="16002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rid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81280" y="23619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if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67280" y="23619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if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6210000">
              <a:off x="1713960" y="2323800"/>
              <a:ext cx="685440" cy="152280"/>
            </a:xfrm>
            <a:prstGeom prst="leftRightArrow">
              <a:avLst>
                <a:gd name="adj1" fmla="val 50000"/>
                <a:gd name="adj2" fmla="val 8960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16:14Z</dcterms:created>
  <dc:creator>root</dc:creator>
  <dc:description/>
  <dc:language>en-US</dc:language>
  <cp:lastModifiedBy>yoshiotu</cp:lastModifiedBy>
  <dcterms:modified xsi:type="dcterms:W3CDTF">2005-06-11T12:45:38Z</dcterms:modified>
  <cp:revision>853</cp:revision>
  <dc:subject/>
  <dc:title>Diagnosing Performance Overheads in the Xen Virtual Machine Monitor</dc:title>
</cp:coreProperties>
</file>