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ACC-FB3F-4225-AFB0-54372E21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446-87D1-4F67-8D0A-4C6C1752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F62-E147-4C28-BEA1-D988ED9A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D37-D769-4583-9268-83C40C03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F9D-EC9A-4CE1-897A-7BA20DB4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8C4F-EAFB-483A-8744-586380C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8968-CBD7-4BD7-853C-135A2904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24D0-1494-4A62-959B-937E5E43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3B6-66D0-4AA9-A28A-E3F919F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7FBE-9D37-472E-9219-7AC00789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D23-B2CC-45B7-A5F9-E029C32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974-A3B4-48CF-AB8D-D387B5AA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3732-8C51-418B-AFEB-7C49C04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B433-F369-4356-B9F8-5C2277B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11EC-C384-4E8F-9C7C-E2E6031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3E2-C075-493E-AC96-8EDAC668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BA64-6EEE-4828-AEE8-820AD25B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462-D646-4DA2-B1F2-2739497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791-A1D9-4970-B3B9-9CC4AF2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659-DCBD-4671-B28F-C68CE3A5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57A-92B4-4D80-BC43-6DDD9FD7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292-8511-4B36-A7BE-A790721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B26-29B3-4D96-90FB-CE1BB9D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A06-59CC-4E69-8C29-F7E599F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0DD-3833-41FD-B63F-58306BEAE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409-1F71-4798-AD3E-72B7A581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agnosing Performance Overheads in the Xen Virtual Machine Environ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733920"/>
            <a:ext cx="3276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vind Menon Willy Zwaenep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FL, Lausan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733920"/>
            <a:ext cx="5410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 Renato Sa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shio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(John) Janakir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 Labs, Palo 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aluated configu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ux: no X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Driver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run application in privileged driver 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n application in unprivileged guest domain interfaced to driver domain via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4724280"/>
            <a:ext cx="7238880" cy="1752840"/>
            <a:chOff x="1371600" y="4724280"/>
            <a:chExt cx="7238880" cy="1752840"/>
          </a:xfrm>
        </p:grpSpPr>
        <p:sp>
          <p:nvSpPr>
            <p:cNvPr id="148" name=""/>
            <p:cNvSpPr/>
            <p:nvPr/>
          </p:nvSpPr>
          <p:spPr>
            <a:xfrm>
              <a:off x="1371600" y="4724280"/>
              <a:ext cx="3581280" cy="1752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1768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160" y="4724280"/>
              <a:ext cx="2362320" cy="17528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6024600"/>
              <a:ext cx="990360" cy="339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530600">
              <a:off x="3504960" y="5571720"/>
              <a:ext cx="533520" cy="113040"/>
            </a:xfrm>
            <a:prstGeom prst="leftRightArrow">
              <a:avLst>
                <a:gd name="adj1" fmla="val 50000"/>
                <a:gd name="adj2" fmla="val 9395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5855040"/>
              <a:ext cx="1143000" cy="169560"/>
            </a:xfrm>
            <a:prstGeom prst="leftRightArrow">
              <a:avLst>
                <a:gd name="adj1" fmla="val 50000"/>
                <a:gd name="adj2" fmla="val 13419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781880"/>
              <a:ext cx="23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6760" y="48373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560" y="5517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160" y="602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8320" y="5176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10000">
              <a:off x="2335680" y="5694120"/>
              <a:ext cx="508680" cy="152280"/>
            </a:xfrm>
            <a:prstGeom prst="leftRightArrow">
              <a:avLst>
                <a:gd name="adj1" fmla="val 50000"/>
                <a:gd name="adj2" fmla="val 66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tworking micro-benchma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reaming TCP connection per NIC (up to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4280" y="1380960"/>
          <a:ext cx="8829720" cy="45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380960"/>
                    <a:ext cx="882972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" y="533412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r receive throughput 75%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throughput 1/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1/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Driver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ing shows slower instruction execution with Xen Driver than w/Linux (both use 100% CP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LB miss count 13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 TLB miss count 17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: 11% more instructions per byte transferred        (Xen virtual interrupts, driver hyperc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1640" y="690480"/>
          <a:ext cx="5408640" cy="289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1640" y="690480"/>
                    <a:ext cx="54086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 configuration executes two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ver domain (38%): overhead of brid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en (27%): overhead of page remapp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5181480"/>
            <a:ext cx="7238880" cy="1519200"/>
            <a:chOff x="914400" y="5181480"/>
            <a:chExt cx="7238880" cy="1519200"/>
          </a:xfrm>
        </p:grpSpPr>
        <p:sp>
          <p:nvSpPr>
            <p:cNvPr id="176" name=""/>
            <p:cNvSpPr/>
            <p:nvPr/>
          </p:nvSpPr>
          <p:spPr>
            <a:xfrm>
              <a:off x="914400" y="5181480"/>
              <a:ext cx="3581280" cy="147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557352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0960" y="5181480"/>
              <a:ext cx="2362320" cy="151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6308640"/>
              <a:ext cx="990360" cy="293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30600">
              <a:off x="3047760" y="5916240"/>
              <a:ext cx="533520" cy="97920"/>
            </a:xfrm>
            <a:prstGeom prst="leftRightArrow">
              <a:avLst>
                <a:gd name="adj1" fmla="val 50000"/>
                <a:gd name="adj2" fmla="val 10846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6161760"/>
              <a:ext cx="1143000" cy="146880"/>
            </a:xfrm>
            <a:prstGeom prst="leftRightArrow">
              <a:avLst>
                <a:gd name="adj1" fmla="val 50000"/>
                <a:gd name="adj2" fmla="val 15491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52326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52794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360" y="586836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8960" y="6307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5575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3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210000">
              <a:off x="1912320" y="6011640"/>
              <a:ext cx="441000" cy="152280"/>
            </a:xfrm>
            <a:prstGeom prst="leftRightArrow">
              <a:avLst>
                <a:gd name="adj1" fmla="val 50000"/>
                <a:gd name="adj2" fmla="val 57651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530360" y="380880"/>
          <a:ext cx="6005520" cy="322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80880"/>
                    <a:ext cx="6005520" cy="32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mit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 executes 6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 of 2 as in Receiv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est instructions increase 2.7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NIC (vif2) in guest does not support       TCP offload capabilities of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6800" y="474840"/>
          <a:ext cx="6887880" cy="386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800" y="474840"/>
                    <a:ext cx="68878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 for improving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virtual NICs to utilize offload capabilities of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ort for packet demultiplexing in driver dom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omalous network behavior in X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 receive throughput in Xen changes with application buffer size (slow Pentium II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2133720"/>
          <a:ext cx="8534520" cy="440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85345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bugging using Xenopro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% kernel execution overhead incurred in socket buffer de-fragmenting routin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2305080"/>
          <a:ext cx="8077320" cy="455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05080"/>
                    <a:ext cx="80773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-fragmenting socket buff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ux: insignificant fragmentation with streaming work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2286000"/>
            <a:ext cx="8152920" cy="3428640"/>
            <a:chOff x="914400" y="2286000"/>
            <a:chExt cx="8152920" cy="3428640"/>
          </a:xfrm>
        </p:grpSpPr>
        <p:sp>
          <p:nvSpPr>
            <p:cNvPr id="213" name=""/>
            <p:cNvSpPr/>
            <p:nvPr/>
          </p:nvSpPr>
          <p:spPr>
            <a:xfrm flipV="1">
              <a:off x="1134720" y="528624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34720" y="342900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7080" y="4071960"/>
              <a:ext cx="514080" cy="714240"/>
            </a:xfrm>
            <a:prstGeom prst="downArrow">
              <a:avLst>
                <a:gd name="adj1" fmla="val 50000"/>
                <a:gd name="adj2" fmla="val 34734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571840"/>
              <a:ext cx="33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receive queu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91400" y="4143600"/>
              <a:ext cx="16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e-frag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6905520" y="2086920"/>
              <a:ext cx="356760" cy="1469160"/>
            </a:xfrm>
            <a:custGeom>
              <a:avLst/>
              <a:gdLst>
                <a:gd name="textAreaLeft" fmla="*/ 227880 w 356760"/>
                <a:gd name="textAreaRight" fmla="*/ 357120 w 356760"/>
                <a:gd name="textAreaTop" fmla="*/ 38160 h 1469160"/>
                <a:gd name="textAreaBottom" fmla="*/ 1431000 h 146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6920" y="2286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buffer (4 KB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64880" y="3813480"/>
              <a:ext cx="356760" cy="587520"/>
            </a:xfrm>
            <a:custGeom>
              <a:avLst/>
              <a:gdLst>
                <a:gd name="textAreaLeft" fmla="*/ 0 w 356760"/>
                <a:gd name="textAreaRight" fmla="*/ 128880 w 356760"/>
                <a:gd name="textAreaTop" fmla="*/ 15120 h 587520"/>
                <a:gd name="textAreaBottom" fmla="*/ 572400 h 5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9680" y="4357800"/>
              <a:ext cx="24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ata packet (MTU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440" y="4929120"/>
              <a:ext cx="146880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5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2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9680" y="307188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2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9680" y="3071880"/>
              <a:ext cx="58752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68040" y="492912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8040" y="4929120"/>
              <a:ext cx="2937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11430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enolinux (Linux on X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ived packets: 1500 bytes (MTU) out of 4 KB socket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e-sized socket buffers support remapping over I/O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tual Machine Monitors (VMM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adoption for server ap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consolidation, co-located ho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ization can affect application performance in unexpected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useful for identifying major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to be included in official Xen and OProfile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o get it: http://xenoprof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server performance in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-66% lower peak throughput than Linux depending on Xen config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662120"/>
          <a:ext cx="8086680" cy="40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62120"/>
                    <a:ext cx="8086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56386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VM-aware profiling to diagnose causes of performance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– framework for VM-aware profiling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performance anomaly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profiling for V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e applications running in VM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 of different domains (VMs) and          the VMM (Xen) routines to execution c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ile various hardwar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unction name        %Instructions     Modu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mu_update          13                   Xen (VMM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r_handle_frame      8                   driver domain (Dom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cp_v4_rcv               5                   guest domain (Dom 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architecture (brief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 existing profilers (OProfile) to use Xenopr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oprof collects samples and coordinates profilers running in multiple dom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1295280"/>
            <a:ext cx="7772400" cy="3276360"/>
            <a:chOff x="457200" y="1295280"/>
            <a:chExt cx="7772400" cy="3276360"/>
          </a:xfrm>
        </p:grpSpPr>
        <p:sp>
          <p:nvSpPr>
            <p:cNvPr id="101" name=""/>
            <p:cNvSpPr/>
            <p:nvPr/>
          </p:nvSpPr>
          <p:spPr>
            <a:xfrm>
              <a:off x="20574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00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428640"/>
              <a:ext cx="3962520" cy="38124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047760"/>
              <a:ext cx="6324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428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enopr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1295280"/>
              <a:ext cx="129528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340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440" y="1295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182844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361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omains (VM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428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Xen V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1907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/W performance count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640" y="274284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245400">
              <a:off x="274320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7767600">
              <a:off x="586728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 network I/O archite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iver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5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un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uest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s virtual NIC connected to driver domain via Xen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: I/O descriptor ring (shared mem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fer: Page remapping (no copy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990720"/>
            <a:ext cx="7238880" cy="2361960"/>
            <a:chOff x="838080" y="990720"/>
            <a:chExt cx="7238880" cy="2361960"/>
          </a:xfrm>
        </p:grpSpPr>
        <p:sp>
          <p:nvSpPr>
            <p:cNvPr id="129" name=""/>
            <p:cNvSpPr/>
            <p:nvPr/>
          </p:nvSpPr>
          <p:spPr>
            <a:xfrm>
              <a:off x="838080" y="990720"/>
              <a:ext cx="3581280" cy="2361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360" y="160020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4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4640" y="990720"/>
              <a:ext cx="2362320" cy="23619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0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743200"/>
              <a:ext cx="990360" cy="456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30600">
              <a:off x="2971080" y="213300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2514600"/>
              <a:ext cx="1143000" cy="228240"/>
            </a:xfrm>
            <a:prstGeom prst="leftRightArrow">
              <a:avLst>
                <a:gd name="adj1" fmla="val 50000"/>
                <a:gd name="adj2" fmla="val 9969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10666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240" y="11430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040" y="20574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264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7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6210000">
              <a:off x="1713960" y="2323800"/>
              <a:ext cx="685440" cy="152280"/>
            </a:xfrm>
            <a:prstGeom prst="leftRightArrow">
              <a:avLst>
                <a:gd name="adj1" fmla="val 50000"/>
                <a:gd name="adj2" fmla="val 8960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16:14Z</dcterms:created>
  <dc:creator>root</dc:creator>
  <dc:description/>
  <dc:language>en-US</dc:language>
  <cp:lastModifiedBy>yoshiotu</cp:lastModifiedBy>
  <dcterms:modified xsi:type="dcterms:W3CDTF">2005-06-11T12:45:38Z</dcterms:modified>
  <cp:revision>853</cp:revision>
  <dc:subject/>
  <dc:title>Diagnosing Performance Overheads in the Xen Virtual Machine Monitor</dc:title>
</cp:coreProperties>
</file>